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A73F-A01B-4F99-BEB3-F5CB159604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320B-5649-482C-A729-49408BAC3A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13A6-06D7-458B-B5DB-05CE9D77B1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4939-2162-41E2-886B-9906C212FA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690-9C41-42D9-804A-44E72DDF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EBF-ACB5-4A68-8E2F-C2AF015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FC6FB-74DA-448E-87C2-ACC4F0B4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4F505-BD3F-4D4A-84C0-101627F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79161-39E0-49C6-8280-6B439965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64CAE-38F4-4AD5-A58E-DCB24C5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9DEE6-7616-4C4E-82D6-1B851926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5A4B1-5EA5-4312-893B-6C24B1D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16239-7C3D-4BBC-849A-97E00F97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9FB6A-22A6-43CD-95CC-4640D52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5DD72-99F4-42DC-8ED1-67547563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3A128-051E-4FAE-A66C-8E0A03F8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B8A-E2EA-411E-BF0E-CFD9EB17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483EC-07D5-4238-9B7F-A4841431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659F7-AA1B-4DD9-A356-34F57BA7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DBB3D-1820-4FED-975B-EB182068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74C40-75CC-40C6-B8ED-5EA4E92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92677-F018-47A8-94EF-6DAFD6F9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AD4CF-5294-4B4F-89E2-9CF1078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F77E4-30C0-4E21-A641-B63ECF0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C6CA9-02A9-4B3A-A6E4-1953887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FB1EB-A84B-4555-B502-CA9FC127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7E3D9-A588-468B-8EE4-CC83CD11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0C8-33AD-4B49-A429-75565FF9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1A4A9-679B-4CE4-8DF0-D86C4579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C4A7-5091-4A27-B5F1-F0E155D1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5FD33-BBB6-487D-8649-01E4477F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7DB2A-8D9F-45B3-932A-E5374611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3DC26-77A0-48BF-B940-43327B8D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5ACF4-F5BC-4400-99E3-215FFBA2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D3D47-BB39-4014-9720-92382404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6BED3-A350-49DA-B8E9-7D4D079E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75749-6DC0-4FD5-AF4F-7F84D6C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7B1AF-74F7-4F2B-BCA1-822587A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9D93E-10B3-45A9-9D87-1D1A5C99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02D44-1022-4746-AE3A-2468008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C2F1B-BC19-4486-A269-9B558B24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CF405-4A91-4B17-BE83-19B7F6B3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1DB7C-FA75-4073-83AE-ECB0C411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ACB48-8F0B-4C77-8DE9-99F71C81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2EE30-D5E4-4626-BB3C-759683D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4347A-D871-4235-A0E8-86B522A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F58FE-3CB3-4299-966E-FB57E049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0A96D-86DC-45B3-A31C-B4C1367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9C751-8357-4DAB-8A25-39601420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7BB72-DE90-4444-84DB-551917BD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0A49C-5101-4753-AE26-1FAEA8F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6CE01-C817-4748-9759-18C8E3AE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29E91-9F5B-4184-AB6F-881647A3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66DD0-90B1-4C55-B38B-6F2C5F44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E6A47-EDE0-466D-BB33-66D14AF3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6DCD9-BDD5-415F-A404-ED84FE37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4F554-DD89-438A-B457-B418BDBB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E9B34-8948-4DB2-AE0D-2782ED7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46380-E6C3-41E0-BD05-02EB1B49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9FA9A-7328-4E50-B548-6FC08B33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66B6D-70EE-4384-BF4F-E51B1732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B517F-1EDD-409F-A3F6-10ECED5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36953-72B4-42C3-A313-381D7796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FFEF4-0F3A-4EEA-B8A2-D9FDF4F9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99ACA-663F-47AC-9475-AD1B162C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2BD9A-4AAA-45BE-BB30-A9AFB3E5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C58CD-D26F-4DD7-A496-8956BDC7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89260-2B10-4F4B-996B-1F8CEFF0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280D5-8009-4D58-A6AC-8FFE279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592C2-12EE-4563-AEE4-9B8398AA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C9DE0-CD14-42E4-8D1A-48E64162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8B303-4A73-4C97-8BC1-2760D38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C25-1425-42F2-B9FE-D1F08991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DE979-6223-4D04-9322-FCB32D6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15123-73A6-4237-84B6-0C545C1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2EDD1-E1D7-47D4-B125-31A9A8B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505BE-729C-4211-9416-E977F606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6A271-42E7-40A9-8C40-D1A37166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E5E7-1B5F-425A-9D6C-C2D373C9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45A8-3720-4192-940D-CFE42666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D30F-3CE7-4D9A-9366-2A11691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5E1D-F103-4405-AB4E-151E0E3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38BA-F893-4056-A32D-9821CA7E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955-C7D0-4063-970A-2BE8E1B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5D94-4C42-41CE-A55A-8DC15E8B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D3A1-95AC-4654-95F6-0C9D91C9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0240-9EE1-4F03-89A0-BAA9A08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C51F-5DD5-4FEB-9B53-27D8D20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2FD9-628F-45BA-81E7-06DE60F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2F68-75E3-4588-A039-E5FEE891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8092-ED24-4B6D-9A75-B0190C73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D471-BF67-404D-97F5-B351A4B0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11BD1-36C0-4B30-ACAA-C9AFB73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FBC7-2F82-4305-83D2-2C42347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FC0-CCB0-49CC-AF97-B7D8120F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067E-4715-45C2-BB68-BDB74516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46D2-9033-4392-9E1A-62A7675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FCBE-DD74-4DBD-85BB-2F03AFC1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1365-B795-4BA4-B017-894F529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0746-A792-44ED-8CAB-DCB5B4E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4AEE-0183-446F-BB9B-2860265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D26A-72AE-40F6-82ED-23E6DA6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721A6-8E9E-4D63-A474-583742FF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0FB4-A4C6-4730-BCCE-31464B38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A7B1-D37D-454A-B33C-3FD130B0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FE4-DB04-4205-8CF8-98104E3C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BEAD-C6E8-40CA-9D19-09D1700C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FE9E-1A3B-48BD-8833-5E794C7B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72074-C8EC-44EE-89D1-B7A17E4A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E089-6586-499F-A4B9-E21F133E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218F-CF63-4DA9-9DD2-1FC682A6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11CA-00D5-4A41-9F6C-C92DDD9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097F1-42EE-428B-B3D6-BEDE294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94C3-5E44-4E37-B4B8-50B52976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F4DFD-97BE-45ED-AA42-B3759D36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CCEDA-6E09-4C4F-8D22-458891B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C2F-72E4-443A-B613-667E1302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5C64-703B-4B60-8732-A2F2B2B6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6BE1-438F-4925-9787-F3F31615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74D38-6DDC-4E32-BEAC-E16BCEBF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929F-5291-46BD-A135-28D7BC1A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139F-E60E-4266-9C08-ABE04DF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67961-6089-4401-B618-8020D8CE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D7AC-5B1C-489A-814F-0DFEEDE3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9380E-FDFC-4496-A0A6-5D7992DC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06A2-2234-46A4-86B2-29BB5BF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42159-AE54-485F-8DA3-3241A99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E1C-1F3E-4346-9301-1AF3247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8FD6-DAAA-49FD-8EBC-925065B2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E66E-BA73-43FE-854F-7C155DB9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9387-5492-4AC4-AB75-2CD0FB55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E94A-72D1-44F0-99E8-1CF35E8C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C842B-BBAE-4AF8-8110-3EDEFB33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525F8-54E1-48D4-909A-00B9900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C5C2D-85E7-4342-883C-4097B9C3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16E6-18F9-41E5-A78A-3AE02EDF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331F-58F8-4E5B-8C97-EA471D95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355B-0052-4BF8-8213-86234EA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9A1-E5A9-4443-B8EB-B970FF0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86DB3-6A85-4BA4-8A5C-4B6003E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DD4B1-5D4E-4DA5-AE9A-DB9172B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0CF6-FD1F-46F3-A718-3D2C028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DCB44-8C1C-4FAF-A9FE-7B725B87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A3BF-0A8B-4CC4-9D3A-BB1C8224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2C2BD-9018-435B-A22C-253D8F87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9645C-F04C-4834-8CCE-660EF540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FCDA0-194D-46AF-A684-FE775865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EC9F-7E90-41FC-9F0E-1EE5989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13C7-C8C5-42E6-AA5B-ADD5A4F8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7F6-D860-4E65-8C55-B5ED8610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62224-F45B-450B-8447-E66F402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B7688-F895-46CB-96E6-5D44A9F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86801-3246-4E6B-8D59-E3A3BAD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80777-BEAD-489C-A7E1-B402D105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2EA1-F8AE-425E-B13C-288357B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EF5F-D2FA-45B8-8E37-765AC678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61671-BA81-4559-A51F-8D6A0A7A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0694A-0ED0-4D34-8424-1DCB0C83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76ECC-AB94-4C8E-BD64-F0C761DC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5DAFC-6E12-44B0-BB55-D76381C9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D00F-D0DF-4426-A609-7776BC0A4F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5ED5-C3B0-4A98-986B-05ECB9AFB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092B-98B9-4F03-8531-DDF4C76663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1E58-B32E-447C-B7C9-086F9FEF74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3912-57D3-4B21-B1D4-E0C4A829E4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4C91-F05E-4C6A-9903-1346151EE1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15D5-6F30-42C8-99C2-CE3425D1CF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C5A0-29F5-4629-9885-DFB5D313F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2FF-2BC4-419B-8DFC-D7BCD5D56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2C9-7771-4D5F-A5A7-E8BDDC75B1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2E5-8AF4-4174-BC8B-7BF1BD5D50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384D-0E51-4579-A4A8-6A87F4790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BD5-55C2-4239-B2E6-78BE8862E0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r-Latn-CS" sz="2800" spc="-1" strike="noStrike">
                <a:solidFill>
                  <a:srgbClr val="ffcc00"/>
                </a:solidFill>
                <a:latin typeface="Times New Roman"/>
              </a:rPr>
              <a:t>INSTITUT ZA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JAVNO </a:t>
            </a:r>
            <a:r>
              <a:rPr b="1" i="1" lang="sr-Latn-CS" sz="2800" spc="-1" strike="noStrike">
                <a:solidFill>
                  <a:srgbClr val="ffcc00"/>
                </a:solidFill>
                <a:latin typeface="Times New Roman"/>
              </a:rPr>
              <a:t>ZDRAVLJ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i="1" lang="sr-Latn-CS" sz="2800" spc="-1" strike="noStrike">
                <a:solidFill>
                  <a:srgbClr val="ffcc00"/>
                </a:solidFill>
                <a:latin typeface="Times New Roman"/>
              </a:rPr>
              <a:t> SRBIJ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ODR</a:t>
            </a: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ŽAVANJE STATUSA “ZEMLJA BEZ POLIOMIJELITISA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U SRBIJ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cc00"/>
                </a:solidFill>
                <a:latin typeface="Times New Roman"/>
              </a:rPr>
              <a:t>DR MILENA KANAZ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508040" y="71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REZOLUCIJA S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majući u vidu d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ećina novih slučajeva u 2005. godini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gistruje u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olio-free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zemljama, na svojoj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9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Skupštini (maj 2006. god.) SZO proglašava ovo globalnom pretnjom zdravlju stanovništ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REZOLUCIJA S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Rezolucija SZO 59.1 fokusira se na adekvatnom odgovoru na importovanje divljeg poliovir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a svojoj 60. Skupštini održanoj u maju 2007. godine SZO je preporučila mere za redukciju mogućih posledica širenja divljeg poliovirusa na međunarodnom nivou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(Rezolicija 60.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MEĐUNARODNI ZDRAVSTVENI PRAVIL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eđunarodni zdravstveni pravilnik (15.06.2007. god.) zahteva hitnu prijavu svakog slučaja poliomijelitisa uzrokovanog divljim poliovirusom (velike boginje, humana influenca izazvana novim podtipom virusa i teški akutni respiratorni sindro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VROPSKI REGION S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RCC zahteva reviziju nacionalnih planova za održavanje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olio free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statusa od svih zemalja članica regiona na bazi rezolucija WHA59.1 i 60.14 i u skladu sa IH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acionalni Plan aktivnosti za period 2008-2010. go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VROPSKI REGION S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Rezolucije SZO podrazumevaju hitan odgovor na detekciju cirkulišućeg polio virus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. Sprovođenje inicijalnog istraživanja unutar 72 sata od potvrde indeksnog sluč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(osnovni podaci o slučaju, područje transmisije, put prenošenja, kvalitet nadzora, obuhvat,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vrsta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i tip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 virusa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VROPSKI REGION S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. Sprovođenje imunizacije u najmanje tri kruga (svaki krug podrazumeva tri doze vakcine) primenom tipski specifične monovalentne OPV. Imunizaciju treba započeti unutar 21-28 dana  od potvrde inicijalnog sluča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VROPSKI REGION S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3. Imunizacijom treba obuhvatiti svu decu uzrasta do 5 godina u  zahvaćenoj i susednim obla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. Sprovođenje visokosenzitivnog nadzora nad AFP do nivoa iznad 2/100.000 dece mlađe od 15 godina, za vreme trajanja epidemije i najmanje još 12 meseci nakon tog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VROPSKI REGION S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Zahtev RCC za formiranj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tima za implementaciju brzog odgovora u slučaju importovanja divljeg poliovirusa na nacionalnom niv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lan brzog odgovora kao deo Nacionalnog plana aktivnosti (2008-201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 god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LAN BRZOG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lan brzog odgovora treba da sadrži sledeć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. Istraživanje inicijalnog slučaja i procena riz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2. Kontakt sa kancelar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m SZO u regionu i zeml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3. Informisanje zdravstvenih radnika i jav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LAN BRZOG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. Implementacija catch-up vakc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5. Jačanje nadzora nad AFP i poliovirus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6. Analiza imunog profila visokorizičnih subpolpulacionih gru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7. Prilagođavanje plana konkretnoj situaciji i priprema strategije dodatnih imunizacionih aktiv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POLIO</a:t>
            </a: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-FREE REGIONI SZ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9933"/>
                </a:solidFill>
                <a:latin typeface="Times New Roman"/>
              </a:rPr>
              <a:t>1991. godina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JUŽNA I SEVER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AME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9933"/>
                </a:solidFill>
                <a:latin typeface="Times New Roman"/>
              </a:rPr>
              <a:t>1997.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ff9933"/>
                </a:solidFill>
                <a:latin typeface="Times New Roman"/>
              </a:rPr>
              <a:t>godina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ZAPADNO - PACIFIČK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9933"/>
                </a:solidFill>
                <a:latin typeface="Times New Roman"/>
              </a:rPr>
              <a:t>2002. godina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EVROPSKI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LAN BRZOG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Aktivnosti treba definisati po danima, od nultog (importovanje slučaja odnosno izolacija divljeg poliovirusa) do 28. dana i nivoima odgovor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ikroplanovi do nivoa svakog okruga sa finansijskom konstrukcij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LAN BRZOG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Suštinu plana čine osnovni elementi masovne imunizacione kampanje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vrsta vak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datum otpočinjanja kampan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(unutar 4  nedelje od potvrde slučaj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vreme trajanja kamp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PLAN BRZOG ODGOVO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uzrast i veličina ciljne popul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strategija imunizacije-zavisi od stepena rizik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(catch-up, mopping-up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geografska ekstenzija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hladni lanac i logis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supervizija, monitoring i evalua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NACIONALNI PLAN AKTIVNOSTI </a:t>
            </a:r>
            <a:br>
              <a:rPr sz="3200"/>
            </a:b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2006-2008. GO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cilju sprečavanja ponovne pojave divljeg poliovirusa ili cirkulacije virulentnog soja poliovirusa vakcinalnog porekla (VDPV) treba održavati visok obuhvat (iznad 95%) OPV3 u svim opštinama u Srb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OBUHVAT OPV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buhvat imunizacijom OPV3 na nacionalnom nivou dostigao je kriterijume SZO i iznosi 97,9% ali osim nerešenog problema imunizacije teško dostupnih vulnerabilnih p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lacionih grupa javlja se i problem oblasti sa niskim obuhvat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OBUHVAT OPV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pštine sa obuhvatom ispod 90% s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. Rača (81,1%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2. Topola (82,6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3. Srbobran (87,4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. Beočin (89,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OBUHVAT OPV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pštine sa obuhvatom ispod 95% s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. Stara Pazova (90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2. Rekovac (91,5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3. Surdulica (92,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. Vladičin Han (92,4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5. Bujanovac (9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. Vlasotince (93,7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OBUHVAT OPV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ladimirci (92,7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Bela Crkva (92,9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. Mali Iđoš (93,3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Kruševac (93,4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. Loznica (94,4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. Kučevo (94,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OBUHVAT OPV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Hitna intervencija okružnih koordinatora koji koordiniraju sprovođenje imunizacije u navedenim opštinama u smislu vanredne revizije vakcinalnih kartoteka radi pronalaženja i vakcinacije  nevakcinisane i nepotpuno vakcinisane de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ostavljanje izveštaja najkasnije do 30.06.2008. god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NACIONALNI PLAN AKTIVNOSTI </a:t>
            </a:r>
            <a:br>
              <a:rPr sz="3200"/>
            </a:b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2006-2008. GO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cilju otkrivanja i potvrde importovanja divljeg poliovirusa ili cirkulacije virulentnog soja poliovirusa vakcinalnog porekla neophodno je sprovoditi visoko kvalit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an nadzor nad AF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PIDEMIOLOŠKA</a:t>
            </a:r>
            <a:r>
              <a:rPr b="1" lang="sr-Latn-C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SITUACIJA POLIOMIJELITISA U SVE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nicijativa za eradikacijom poliomijelitisa    na globalnom nivou pretrpela je zastoj u periodu 2003-2006. godine zbog prekida imunizacije u nekim oblastima severne Niger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irus se raširio Afrikom i Arabijskim poluostrvom zahvatajući Indoneziju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br>
              <a:rPr sz="3200"/>
            </a:b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DEFINICIJA AFP SLUČAJ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vaka osoba ispod 15 godina starosti sa akutnom flakcidnom paralizom 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(uključujući </a:t>
            </a:r>
            <a:r>
              <a:rPr b="1" i="1" lang="sr-Latn-CS" sz="3200" spc="-1" strike="noStrike">
                <a:solidFill>
                  <a:srgbClr val="ffcc00"/>
                </a:solidFill>
                <a:latin typeface="Times New Roman"/>
              </a:rPr>
              <a:t>Guillain Barre sindrom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ili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svaka osoba sa paralitičkom bolesti bilo kog uzrasta sa sumnjom na poliomijelit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IJAVLJIVANJE NEPOLIO AFP SLUČA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200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godini prijavljeno je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 9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slučajeva AF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topa nepolio slučajeva AFP/100 000 dece ispod 15 godina starosti je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0,7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   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≥ 1/100 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IJAVLJIVANJE NEPOLIO AFP SLUČA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ojvodina 1 slučaj (0,31/100 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Centralna Srbija 8 slučajeva (0,93/100 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avovremenost izveštavanja 9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otpunost izveštavanja 97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: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IJAVLJIVANJE NE POLIO AFP SLUČA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ZO insistira na ravnomernom prijavljivanju AFP slučajeva u populaciji uzrasta ispod 15 godina u svim oblastima (dostizanje ciljne stope na nivou svakog okru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IJAVLJIVANJE NEPOLIO AFP SLUČA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periodu 2005-2007. godine sledeći okruzi su bez prijavljenih slučajeva (neme z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1. Severnobanat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2. Kolubar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3. Zaječar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4. Zlatibor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5. Nišavski i Toplič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Još 7 okruga je prijavilo manji br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lučajeva od očekivanog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IJAVLJIVANJE NE POLIO AFP SLUČA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iše o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0% AFP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lučajeva prijavi se u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adzornim jedinicama u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ograd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Kragujevcu i Novom Sa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pušteni slučajevi (Beograd i Novi S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IJAVLJIVANJE NE POLIO AFP SLUČA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cenat AFP slučajeva prijavljenih unutar 7 dana od početka paral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55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 ≥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EPIDEMIOLOŠKO ISTRAŽ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cenat AFP slu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č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ajeva istraženih unutar 48 sati od prijavljiv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88,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 je≥ 80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AVOVREMENO PRIKUPLJANJE UZORAKA STOL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cenat dva adekvatno uzeta uzorka stolice, u razmaku od najmanje 24-48 sati, unutar 14 dana od početka paralize, primljenih u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obrom stanju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u laborator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77,7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 je ≥ 80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PRAVOVREMENI TRANSPORT</a:t>
            </a:r>
            <a:br>
              <a:rPr sz="3200"/>
            </a:b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 UZORAKA STOLI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cenat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AFP slučajeva sa uzorcima stolice koji su dopremljeni u laboratoriju unutar 72 sata od uzim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2007 – 100,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 je ≥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PIDEMIOLOŠKA</a:t>
            </a:r>
            <a:r>
              <a:rPr b="1" lang="sr-Latn-C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SITUACIJA POLIOMIJELITISA U SVE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ndijski podtip uzrokovao je epidemije u susednim zemljama i Afr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akon importovanja divljeg poliovirusa epidemije su izbile u zemljama sa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olio-free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tu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izak obuhvat imunizacijom i nisko senzitivan nadzor nad AFP u ovim zemlj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KONTROLNI PREGL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cenat AFP slučajeva kod 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jih je kontrolni pregled obavljen unutar 60 dana od početka paral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4,4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 je ≥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33"/>
                </a:solidFill>
                <a:latin typeface="Times New Roman"/>
              </a:rPr>
              <a:t>FINALNA KLASIFIKACIJA SLUČAJE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cenat AFP slučajeva kod kijih je finalna klasifikacija obavljena unutar 90 dana od početka paral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4,4%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 je ≥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ajčešća klinička dijagnoza je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Syndr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Guillain-Barre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(5 od 9 slučajev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FINALNA KLASIFIKACIJA SLUČA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lučaj 006 klasifikovan je kao polio kompatibilan moguće udružen sa vakcinacij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puš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očetak paralize unutar 4-30 dana nakon aplikacije OPV (prva doz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zolovan PV2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Sabin-like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(neadekvatni uzorci u odnosu na vreme uziman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isutna rezidualna paraliza nakon 60 d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NDEKS KVALITETA AFP NADZO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obija se na osnovu stope nepoli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AFP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lučajev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centa adekvatno uzetih uzoraka stolice unut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14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ana od početka paral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Cilj je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0,80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       200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0,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jniži indeks od uvođenja nadz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AFP surveillance index, 2007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tretch/>
        </p:blipFill>
        <p:spPr>
          <a:xfrm>
            <a:off x="2473200" y="1905120"/>
            <a:ext cx="6480" cy="4114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"/>
          <p:cNvPicPr/>
          <p:nvPr/>
        </p:nvPicPr>
        <p:blipFill>
          <a:blip r:embed="rId2"/>
          <a:stretch/>
        </p:blipFill>
        <p:spPr>
          <a:xfrm>
            <a:off x="6665760" y="1905120"/>
            <a:ext cx="3240" cy="198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0" descr=""/>
          <p:cNvPicPr/>
          <p:nvPr/>
        </p:nvPicPr>
        <p:blipFill>
          <a:blip r:embed="rId3"/>
          <a:stretch/>
        </p:blipFill>
        <p:spPr>
          <a:xfrm>
            <a:off x="2438280" y="1905120"/>
            <a:ext cx="4232520" cy="4114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4232520" cy="41148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LABOSTI U NADZO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edovoljno razumevanje značaja aktivnog nadzora i prijavljivanja slučajeva AF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edovoljna saradnja kliničara i epidemiolo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zostanak aktivnog angažovanja okružnih koordina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LABOSTI U NADZO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Bez nedeljnih poseta nadzornim jedinicama i pregleda medicinske dokumentacije nema aktivnog nadz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eme z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opušteni slučaje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Kontrolni preg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Finalna klasifik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LABOSTI U NADZO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padanje motivisa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ivatna lekarska pr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tav donosioca odlu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Nefunkcionisanje radnih grupa za poliomijelitis i AFP (Nacionalni koordinacioni komit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PIDEMIOLOŠKA SITUACIJA POLIOMIJELITISA U SVE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iše od 50% svih prijavljenih slučajeva polia u 2005. godini registrovano je u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olio-free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zemlja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Zahv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ljujući ogromnim naporima ove epidemije su stavljene pod kontro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ko 10%  svih slučajeva u 200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godi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EPIDEMIOLOŠKA SITUACIJA POLIOMIJELITISA U SVE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2007. godini prijavljeno je 1308 slučajeva poliomijelitisa u sve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olio se endemski održava u četiri zeml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ndija, Nigerija, Pakistan i Avganistan (1201 slučajev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ivlji polio virus je importovan u 12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olio-free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zemalja (107 slučajev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9933"/>
                </a:solidFill>
                <a:latin typeface="Times New Roman"/>
              </a:rPr>
              <a:t>EPIDEMIOLOŠKA SITUACIJA POLIOMIJELITISA U SVE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DIVLJI POLIOVIRU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9933"/>
                </a:solidFill>
                <a:latin typeface="Times New Roman"/>
              </a:rPr>
              <a:t>DIVLJI POLIOVIRU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avgustu 2007. godine izolovan je divlji poliovirus u uzorku otpadnih voda u Žene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julu 2007. godine izolovan je divlji poliovirus u Australiji iz uzorka stolice deteta koje je boravilo u Pakista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 Singapuru 2006. godine kod deteta koje je došlo iz Niger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0:48:06Z</dcterms:created>
  <dc:creator>Milena Kanazir</dc:creator>
  <dc:description/>
  <dc:language>en-US</dc:language>
  <cp:lastModifiedBy>Zoran</cp:lastModifiedBy>
  <cp:lastPrinted>2006-05-12T17:14:54Z</cp:lastPrinted>
  <dcterms:modified xsi:type="dcterms:W3CDTF">2011-03-07T17:24:48Z</dcterms:modified>
  <cp:revision>164</cp:revision>
  <dc:subject/>
  <dc:title>AFP NADZOR U SRBIJI U PERIODU 2003-2005. GODINA- INDIKATORI KVALITETA</dc:title>
</cp:coreProperties>
</file>